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E91FE-705A-4AA9-97E0-0322B8701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DCF9B-CD08-422E-B26E-B4B27161E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A1E48-626E-4D8E-96EA-DCBF0D8E2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A0C60-C765-45E8-A435-57028C9D9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2412E-4EBE-43B8-9578-D59363B46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D8ABE-EC8F-4103-8FE6-2E110CAE2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F5981-88F5-4F14-94FB-C1419A769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BE49F-2DF6-4F19-A589-8ABC4F5C1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570DA-07D3-4EE3-9E8F-00D727482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E2D79-EF10-4C98-ADC5-ECF7F07A5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9A151-5818-433F-ABC9-4BA084778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A064F-9C7A-428A-A795-AAE685AE7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17109-0B30-44B0-8691-2D0C8F9334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Line 6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7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9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0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1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2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feld 1"/>
          <p:cNvSpPr/>
          <p:nvPr/>
        </p:nvSpPr>
        <p:spPr>
          <a:xfrm>
            <a:off x="503280" y="368280"/>
            <a:ext cx="75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used in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ica.Mechanics.MultiBody.Examples.Loops.PlanarLoops_analy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Otter, Martin</cp:lastModifiedBy>
  <dcterms:modified xsi:type="dcterms:W3CDTF">2012-10-06T04:39:44Z</dcterms:modified>
  <cp:revision>2</cp:revision>
  <dc:subject/>
  <dc:title>Folie 1</dc:title>
</cp:coreProperties>
</file>